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3840-EF85-4EF6-90C8-FC92AE9A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BE1-4DD1-4E93-8736-6CC1F24B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0AF82-4737-4845-9A1A-1A2C3CED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E89CD-CF5E-48C2-8077-9F9B270D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D78B5-E8D9-424C-B5A5-5D062F52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34069-5002-4483-9556-B76600F2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72607-97D1-48A5-BFCC-49CA4B53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29E99-F595-4D56-8E9A-A09D9F6A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6F4D7-9C28-4987-905E-1BA4D6F9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5944B-56CE-4B96-9AD4-266A2529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12A18-6C3B-4B8A-A697-7498798E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4EAF3-B4E1-4A53-B0FA-F908A651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912-5B38-4614-965F-D74EFB81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004D7-2C9F-4080-8AF1-CCC7472E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C741D-A43F-49B4-AF2F-B576C109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53152-E2E6-48FF-90A6-A1F4B6B4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B8FC9-043B-43D6-B0FB-80803E5C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F9FF3-8AF6-45A2-AAD8-3474580D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53707-94BB-4552-8A35-AA87B0AD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E1DF6-7DF2-4E65-B237-A3B62CB0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E6AF2-71B6-4696-9CB1-6479BFB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2CF8F-00C2-4D06-BB13-CC744F77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D81B1-79CE-464B-BD23-EF05CB32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8B1-2F6C-4C05-95A5-4872AA18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FEBA6-9054-4CC1-BFDD-98691B25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DDF6B-FF6D-42C0-B3E7-84B07471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E18CF-22FC-46EC-9672-1F6F1A05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2E9E2-5D2F-49D4-944D-152DE033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251FE-F1DC-49B2-A682-74D2D2B0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18322-F31D-4819-BC52-DF399927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5EA81-BA2C-4ADC-83F8-8BAEDBFC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65721-1C6C-4B44-B4CB-FD038BAF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1DC7E-8195-4928-A7B4-F78B89EB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CFA95-85DC-44B9-B041-774F5BBF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E579-ECE0-492B-B306-8E7FA551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2E801-067E-4A50-B62D-0A702678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B70B0-C317-4B0C-B472-DC04421C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3136F-5BF7-40CC-B27E-DE44C700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42013-9DE5-4EFE-AE19-8FD6ABC0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C8379-1138-4F19-B4CA-4853A82F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FABE2-A2D4-409C-B556-D4D2D861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C250B-4C9E-4E15-994A-CE771BC6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70501-7AA1-4368-9AD4-A20E64AE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E4193-DAF3-4484-B518-649D73F3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33B6C-A232-45A6-9567-BD4E7183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28B5-C0E0-44B6-8A5A-74A1F960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99692-FA84-40E0-BD51-15D2AB39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ECC58-59BE-4D55-AA6D-1CA0B633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5FAF3-0230-424F-8B1A-913BEE56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D8BEF-0DDA-477C-9DC6-CEB7A891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4AFE6-14C7-45C9-AEEE-173E3523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A823-66D6-4C11-87EB-43F7746C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2127-D8A9-43EC-BBDE-284B7581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4664-36FB-456B-8574-5A9308C3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6A23-F136-4FDE-91C5-126F93C0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1F76-DDE4-497C-8BFE-F00AFDF8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BE28-4004-409C-ABC3-942BAB3E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282B-3E93-402F-96F3-19F1EC9F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A6C9-7D7E-45E3-808E-BA24D038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EDE7-8227-4D1F-B2EE-85DE535A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7258-E817-4B83-A072-4F093637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4141-47B9-4B02-8208-2A8AF6F1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4AA5E-5BE5-4A07-989E-F14936BC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B17F0-D5C6-45C8-A599-E23D3A6A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A4881-5766-4098-B1C1-C0378678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A93FF-AAE5-4F62-8CA5-9C17D8DE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5980-0E9D-4623-892F-03FB0CE2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BB3-DDAA-4737-A303-17151618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60DA6-1CB2-47BA-B389-76C2C177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A5CB3-B0FD-47DC-8DCA-6E7CA77F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F0FE0-8C60-4073-8E62-FE5C728E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95B27-E115-4AB3-A98C-79AD0B18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F8530-3419-4418-B60C-383E605C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98287-055E-486C-AE7F-44A28763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CB1E3-1B47-4414-80CF-D26EF47E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E3388-32EF-4F81-94D2-8D53950D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9B868-C2ED-4825-9DE1-71AB826A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EFD1C-DB92-43D7-A72B-39850578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DFF-1225-4E7E-9EF7-49CA87FF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F861-3CA2-497C-B52B-FD4A2C2C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04BE1-32AD-4455-BF08-82C547C4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4CFC8-95BD-498A-B384-E0C5B09C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ADA9F-E054-4435-8CF2-4C672454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2DC8F-A3EE-4AE1-8E57-B12B4F91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C44D6-8F16-4B89-9B11-3A0934B6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41424-A2A8-449B-9F02-3C767A51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6BD0-F1E4-46D9-A524-A15CB740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2019B-C9D6-4483-9D53-5C60C18C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AFB05-9713-4903-BEE1-E0EA06B9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227-6AC1-4252-B819-21E24F6B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36F46-AD64-466B-8738-B42D10CD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C0C80-76E6-43C0-B68C-B6E64786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80DE5-E4B5-4823-ADB2-8EECBEAF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17A01-49A1-4515-91E1-31A179EA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94477-E5CB-4F62-A2B0-EC78DE7E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4B948-88DA-485F-8731-FE1C6CA7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E896D-02B6-4A0B-A459-F24DBBAB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EBA72-A93F-4314-84E1-FE137903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F71BE-3D8C-414D-ADA1-93082803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F086A-3444-4AE0-BEC2-10C6DA6D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051-150E-4530-9E26-9E9EF8B7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53F32-D073-42B2-A723-4B05B575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7CE6A-E139-4C16-8EF6-B40235D4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CD345-5D02-46C1-8675-111BCAB4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C13E1-3A33-4C6C-A2CE-8970F31F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2DA96-201F-417E-BB6A-1A9305E1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D7A40-7FC9-41C1-9660-D4A25AEE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77931-73D0-4546-895C-AC90C358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BCA4E-A7D6-4885-90A6-D9F1FA42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F3363-F4BE-4075-9653-931050DC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DB317-6112-4129-BB2B-7B6D84D7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171-25D5-4571-90E9-190D760B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98F35-6A91-4E79-B5CB-04D8226A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D48F4-8D02-4BA6-B9B1-21D6D306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0D965-FB29-4B4F-90B2-75384D08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A91E1-CDA7-4683-9A18-0D16E065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8636B-F96D-40AB-B76F-05BA52E3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CCC89-8230-4014-A342-04AA1E9D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AFDAA-1182-4539-BF6C-2717417D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90A53-604F-470C-BC08-A7516ACF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B39DF-484B-4767-AEA8-C0E7C359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655FD-93A1-4443-9D21-C61EF111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902-4AD4-48BE-81F0-AACE9972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A84D5-B40B-47FE-945E-BA88DD51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846F8-B2AA-45EC-B713-141633F6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E79E4-C0A3-4404-AEFD-054E4E8B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21C65-3890-494B-AAF6-7E1E9EAD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1B0EB-3709-478C-B3F4-E26F7BC9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0DCC1-9FAD-41C5-A196-30A63A19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7BE60-556F-4556-A866-6410B5F8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12D68-CA82-463F-869F-BF868FA7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C4084-A101-4861-95EF-DB9F3B63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9D0E1-F26E-4442-9CDD-9F2F2510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0CA-5802-4999-A608-F97F2DCE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07728-5B6A-48C3-B1ED-30FD3022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6203F-9731-43AF-9CAC-25ABE9E5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CA8A9-E9AF-4472-BF89-FD469E27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B60BE-C1FF-4689-95BC-C17B820B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9FA70-4E14-40BF-BA7D-13985FB0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68344-4F21-4BDB-B779-7B5A94F4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A23C5-DEEA-4AD4-9021-8B8B8579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F563D-F2A3-402A-B996-50E0A9FA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06D2A-8838-4639-BD21-CC7A4ADA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1C898-867A-4FB5-A0F7-72A8F0DB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A4E2-C536-4DF2-8EDC-DFC046080B82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2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8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9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0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40F3-E592-4750-85C2-10CFABEAB191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8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28BF-17D5-4FDB-AF4E-EABE393BB62C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Rectangle 13"/>
            <p:cNvSpPr/>
            <p:nvPr/>
          </p:nvSpPr>
          <p:spPr>
            <a:xfrm>
              <a:off x="7317720" y="0"/>
              <a:ext cx="1826280" cy="685800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Rectangle 14"/>
            <p:cNvSpPr/>
            <p:nvPr/>
          </p:nvSpPr>
          <p:spPr>
            <a:xfrm>
              <a:off x="731772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Oval 15"/>
            <p:cNvSpPr/>
            <p:nvPr/>
          </p:nvSpPr>
          <p:spPr>
            <a:xfrm>
              <a:off x="781236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E5EC-0E43-4F03-B7EE-5E1C19DBC079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1880" y="0"/>
                <a:ext cx="1823760" cy="4941720"/>
              </a:xfrm>
              <a:prstGeom prst="rect">
                <a:avLst/>
              </a:prstGeom>
              <a:solidFill>
                <a:srgbClr val="d2d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9800"/>
                <a:ext cx="9144000" cy="287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9fb8c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B4F3-B189-4E20-A126-86DBF882C5D8}" type="slidenum">
              <a:rPr b="0" lang="fr-C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4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08C9-0191-45B3-AB45-11C9061CB482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Rectangle 12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0" y="2514600"/>
              <a:ext cx="1826280" cy="1828800"/>
            </a:xfrm>
            <a:prstGeom prst="rect">
              <a:avLst/>
            </a:prstGeom>
            <a:solidFill>
              <a:srgbClr val="9fb8c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" name="Rectangle 14" descr=""/>
            <p:cNvPicPr/>
            <p:nvPr/>
          </p:nvPicPr>
          <p:blipFill>
            <a:blip r:embed="rId2"/>
            <a:stretch/>
          </p:blipFill>
          <p:spPr>
            <a:xfrm>
              <a:off x="1814040" y="2517480"/>
              <a:ext cx="7329960" cy="371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6ACC-E30A-4B11-8FAE-2D8493E0362D}" type="slidenum">
              <a:rPr b="0" lang="fr-C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6D2E-151B-44B9-A26B-58ECE06AB7CE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1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2230-8740-4B61-AA2C-7E42D07ACA66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277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Rectangle 13"/>
            <p:cNvSpPr/>
            <p:nvPr/>
          </p:nvSpPr>
          <p:spPr>
            <a:xfrm>
              <a:off x="11880" y="0"/>
              <a:ext cx="1823760" cy="82332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Oval 14"/>
            <p:cNvSpPr/>
            <p:nvPr/>
          </p:nvSpPr>
          <p:spPr>
            <a:xfrm>
              <a:off x="506160" y="205560"/>
              <a:ext cx="835920" cy="4114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3BE2-CF2B-4A0E-99A6-5627AE28C3C5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322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Oval 13"/>
            <p:cNvSpPr/>
            <p:nvPr/>
          </p:nvSpPr>
          <p:spPr>
            <a:xfrm>
              <a:off x="500760" y="205560"/>
              <a:ext cx="827280" cy="4114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62AD-AED7-42D8-8C0D-62EAD9C3F675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66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F363-442E-49B4-9945-BBA5B51B3673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Trebuchet MS"/>
              </a:rPr>
              <a:t>NOTRE CONSTITU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Une constitution est l’ensemble des lois que le gouvernement doit respecter. Elle nous protège contre l’abus de pouvo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a charte canadienne des droits et libertés fait partie de notre constitu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Elle garantie les droits et les libertés le plus fondamentaux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toutes les Canadiennes et les Canadie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3" descr="C:\Users\Michelle.Skead\AppData\Local\Microsoft\Windows\Temporary Internet Files\Content.IE5\ZFX8F7J5\MC900441310[1].png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Trebuchet MS"/>
              </a:rPr>
              <a:t>LA CHARTE CANADIENNE DES DROITS ET LIBERTÉ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133360" y="2285640"/>
            <a:ext cx="6553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Regardez les points principaux de la Charte canadienne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Calibri"/>
              </a:rPr>
              <a:t>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la page 6 de votre manuel. Écrivez 5 de ces points dans votre cartable. Le titre est « La Charte Canadienne des Droits et Libertés 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Maintenant, pense et détermine lequel des droits est le plus important pour toi (et pourquoi) et choisit le droit qui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le moins d’importance pour toi. Pourquoi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5" descr="MCj01495110000[1]"/>
          <p:cNvPicPr/>
          <p:nvPr/>
        </p:nvPicPr>
        <p:blipFill>
          <a:blip r:embed="rId1"/>
          <a:stretch/>
        </p:blipFill>
        <p:spPr>
          <a:xfrm>
            <a:off x="5486400" y="495288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C:\Users\Michelle.Skead\AppData\Local\Microsoft\Windows\Temporary Internet Files\Content.IE5\ZFX8F7J5\MC900441310[1].png"/>
          <p:cNvPicPr/>
          <p:nvPr/>
        </p:nvPicPr>
        <p:blipFill>
          <a:blip r:embed="rId2"/>
          <a:stretch/>
        </p:blipFill>
        <p:spPr>
          <a:xfrm>
            <a:off x="38088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’AUTORITÉ ET LE POUVOIR DANS TA VIE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1" lang="fr-CA" sz="2200" spc="-1" strike="noStrike">
                <a:solidFill>
                  <a:srgbClr val="000000"/>
                </a:solidFill>
                <a:latin typeface="Calibri"/>
              </a:rPr>
              <a:t> mesure que tu vieillis, la loi t’autorise à avoir de plus en plus de pouvoir sur ta v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3.   Quels genres de changements  surviennent dans ta vie? (Qu`est-ce que tu as le droit de faire maintenant que tu es plus âgé?) (nomme 5 minimu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Ex. Rester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la maison se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QUAND VOUS ÊTES PLUS ÂGÉE!!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els droits vas-tu avoir en 10 ans que tu n’as pas maintenant? (nomme 5 min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Ex: avoir un permis de condui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4" descr="MCj03080590000[1]"/>
          <p:cNvPicPr/>
          <p:nvPr/>
        </p:nvPicPr>
        <p:blipFill>
          <a:blip r:embed="rId1"/>
          <a:stretch/>
        </p:blipFill>
        <p:spPr>
          <a:xfrm>
            <a:off x="6781680" y="3449520"/>
            <a:ext cx="1351080" cy="18306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j0212957"/>
          <p:cNvPicPr/>
          <p:nvPr/>
        </p:nvPicPr>
        <p:blipFill>
          <a:blip r:embed="rId2"/>
          <a:stretch/>
        </p:blipFill>
        <p:spPr>
          <a:xfrm>
            <a:off x="2055960" y="685800"/>
            <a:ext cx="1830240" cy="11494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MCj02405310000[1]"/>
          <p:cNvPicPr/>
          <p:nvPr/>
        </p:nvPicPr>
        <p:blipFill>
          <a:blip r:embed="rId3"/>
          <a:stretch/>
        </p:blipFill>
        <p:spPr>
          <a:xfrm>
            <a:off x="2743200" y="4191120"/>
            <a:ext cx="1357200" cy="18255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C:\Users\Michelle.Skead\AppData\Local\Microsoft\Windows\Temporary Internet Files\Content.IE5\ZFX8F7J5\MC900441310[1].png"/>
          <p:cNvPicPr/>
          <p:nvPr/>
        </p:nvPicPr>
        <p:blipFill>
          <a:blip r:embed="rId4"/>
          <a:stretch/>
        </p:blipFill>
        <p:spPr>
          <a:xfrm>
            <a:off x="30492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’AUTONOMISATION PERSONNELL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’est-ce que ça veut dire? D’être capable d’agir en fonction de ses besoins, de ses désirs, de ses opinions, de ses croyances, et de ses sentim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Il y a beaucoup de choses que vous pouvez faire pour devenir autono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5. Regarde à la page 8. Lis la page. Écris 7 choses que les jeunes peuvent faire pour devenir plus autono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000000"/>
                </a:solidFill>
                <a:latin typeface="Calibri"/>
              </a:rPr>
              <a:t>Copie le prochain diapositif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A LISTE DES IDÉES IMPORTANTES JUSQU’À MAINTENANT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es gens autonomes peuvent faire des choix au sujet de leur v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’autorité donne le droit 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une personne de prendre des décis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Notre constitution nous protègent contre l’abus de pouvo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a charte canadienne des droits et libertés nous garantie les droits et les libertés les plus fondamentau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mesure que nous vieillissons, nous avons plus de pouvoir dans notre v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’autonomisation personnelle consiste 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exercer un certain contrôle sur sa v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4" descr="j0195812"/>
          <p:cNvPicPr/>
          <p:nvPr/>
        </p:nvPicPr>
        <p:blipFill>
          <a:blip r:embed="rId1"/>
          <a:stretch/>
        </p:blipFill>
        <p:spPr>
          <a:xfrm>
            <a:off x="228600" y="259092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14:06:35Z</dcterms:created>
  <dc:creator>ED18</dc:creator>
  <dc:description/>
  <dc:language>en-US</dc:language>
  <cp:lastModifiedBy>ED18</cp:lastModifiedBy>
  <dcterms:modified xsi:type="dcterms:W3CDTF">2014-11-24T14:19:23Z</dcterms:modified>
  <cp:revision>7</cp:revision>
  <dc:subject/>
  <dc:title>Notre constitution</dc:title>
</cp:coreProperties>
</file>